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E04FEF-59F7-4C20-AAE7-69FD56FEF6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17D423-0A22-4C58-AA90-87DCDCC577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3052EC-A0CB-4407-B821-3917675374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FFE091-6E3C-4A73-97A1-5B64172C2E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9C547C-C784-4E3F-A2E4-553C7F927A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929CC2-FCB1-4BCA-8426-0912B7A9EA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8CEA6A-0BDD-45F5-A8EF-B91D1EB12D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EA7B4D-509A-4CB4-99C4-1BC757046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94910-E2C0-491B-AED5-1420ED2C3A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10B1D-B5D5-4094-A52E-C8C49BBD25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C6A9C-48E3-4D3D-8061-5793841C0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C4B1A-6273-4E5E-B139-1F724954A2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CA86C-8288-444B-9AB5-872F7E1832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eodruid.com/85465-courchevel-station-de-sports-d-hiver-saint-bon-tarentaise-rhone-alpes-france" TargetMode="External"/><Relationship Id="rId3" Type="http://schemas.openxmlformats.org/officeDocument/2006/relationships/hyperlink" Target="http://www.geodruid.com/85465-courchevel-station-de-sports-d-hiver-saint-bon-tarentaise-rhone-alpes-france" TargetMode="External"/><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5943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2"/>
              </a:rPr>
              <a:t>Courchevel</a:t>
            </a:r>
            <a:r>
              <a:rPr b="0" lang="en-US" sz="4400" spc="-1" strike="noStrike" u="sng">
                <a:solidFill>
                  <a:srgbClr val="009999"/>
                </a:solidFill>
                <a:uFillTx/>
                <a:latin typeface="Arial"/>
                <a:hlinkClick r:id="rId3"/>
              </a:rPr>
              <a:t> Franc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
          <p:cNvSpPr/>
          <p:nvPr/>
        </p:nvSpPr>
        <p:spPr>
          <a:xfrm>
            <a:off x="17754480" y="1828800"/>
            <a:ext cx="3733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a:off x="457200" y="1143000"/>
            <a:ext cx="6400800" cy="5465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
          <p:cNvSpPr/>
          <p:nvPr/>
        </p:nvSpPr>
        <p:spPr>
          <a:xfrm>
            <a:off x="1143000" y="1143000"/>
            <a:ext cx="4800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1295280" y="1066680"/>
            <a:ext cx="6477120" cy="3408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Chere Mme. Dil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	</a:t>
            </a:r>
            <a:r>
              <a:rPr b="0" lang="en-US" sz="1800" spc="-1" strike="noStrike">
                <a:solidFill>
                  <a:srgbClr val="cc0000"/>
                </a:solidFill>
                <a:latin typeface="Arial"/>
              </a:rPr>
              <a:t>Ce matin, je sius arrive a courchevel. J’ai enregistre a l’hotel, c’est L’hotel La sivoliere. J’ai une belle vue des Alpes. J’ai dejeune dans le restaurant de l’hotel; j’ai mange une pizza. Je suis alle a la montagne et j’ai fait le tubing. Je n’ai jamais fait due ski – je prefere le tubing. C’est une journee amusan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Votre elev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e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76320"/>
            <a:ext cx="5486400" cy="4419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t>
            </a:r>
            <a:r>
              <a:rPr b="0" lang="en-US" sz="2400" spc="-1" strike="noStrike">
                <a:solidFill>
                  <a:srgbClr val="000000"/>
                </a:solidFill>
                <a:latin typeface="Arial"/>
                <a:ea typeface="Arial"/>
              </a:rPr>
              <a:t>ère Mme. Dill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Je suis tres bien.  L’hotel est tres grande. J</a:t>
            </a:r>
            <a:r>
              <a:rPr b="0" lang="en-US" sz="2400" spc="-1" strike="noStrike">
                <a:solidFill>
                  <a:srgbClr val="000000"/>
                </a:solidFill>
                <a:latin typeface="Arial"/>
              </a:rPr>
              <a:t>'ai vu</a:t>
            </a:r>
            <a:r>
              <a:rPr b="0" lang="en-US" sz="3200" spc="-1" strike="noStrike">
                <a:solidFill>
                  <a:srgbClr val="000000"/>
                </a:solidFill>
                <a:latin typeface="Arial"/>
              </a:rPr>
              <a:t> </a:t>
            </a:r>
            <a:r>
              <a:rPr b="0" lang="en-US" sz="2400" spc="-1" strike="noStrike">
                <a:solidFill>
                  <a:srgbClr val="000000"/>
                </a:solidFill>
                <a:latin typeface="Arial"/>
              </a:rPr>
              <a:t>Matheus Sardinha. J’ai ne vu jamais un chien.</a:t>
            </a:r>
            <a:r>
              <a:rPr b="0" lang="en-US" sz="3200" spc="-1" strike="noStrike">
                <a:solidFill>
                  <a:srgbClr val="000000"/>
                </a:solidFill>
                <a:latin typeface="Arial"/>
              </a:rPr>
              <a:t> </a:t>
            </a:r>
            <a:r>
              <a:rPr b="0" lang="en-US" sz="2400" spc="-1" strike="noStrike">
                <a:solidFill>
                  <a:srgbClr val="000000"/>
                </a:solidFill>
                <a:latin typeface="Arial"/>
              </a:rPr>
              <a:t>Le dîner grande et tres bien. J'ai obtenu un hamburg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tre elev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990720"/>
            <a:ext cx="3276720" cy="2286000"/>
          </a:xfrm>
          <a:prstGeom prst="rect">
            <a:avLst/>
          </a:prstGeom>
          <a:noFill/>
          <a:ln w="0">
            <a:noFill/>
          </a:ln>
        </p:spPr>
        <p:txBody>
          <a:bodyPr lIns="90000" rIns="90000" tIns="46800" bIns="46800" anchor="t">
            <a:normAutofit fontScale="85000"/>
          </a:bodyPr>
          <a:p>
            <a:pPr marL="291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re Mme Dill,</a:t>
            </a:r>
            <a:endParaRPr b="0" lang="en-US" sz="1800" spc="-1" strike="noStrike">
              <a:solidFill>
                <a:srgbClr val="000000"/>
              </a:solidFill>
              <a:latin typeface="Arial"/>
            </a:endParaRPr>
          </a:p>
          <a:p>
            <a:pPr marL="2916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ambre de la hotel  est tres bonne. J’ai fait tubing a nouveau. Je visite un restaurant de l’hotel </a:t>
            </a:r>
            <a:r>
              <a:rPr b="0" lang="en-US" sz="1600" spc="-1" strike="noStrike">
                <a:solidFill>
                  <a:srgbClr val="000000"/>
                </a:solidFill>
                <a:latin typeface="Arial"/>
              </a:rPr>
              <a:t>pour le dîner. Je vu le chiots. Je ne vu jamais cheins.</a:t>
            </a:r>
            <a:endParaRPr b="0" lang="en-US" sz="1600" spc="-1" strike="noStrike">
              <a:solidFill>
                <a:srgbClr val="000000"/>
              </a:solidFill>
              <a:latin typeface="Arial"/>
            </a:endParaRPr>
          </a:p>
          <a:p>
            <a:pPr marL="2916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Votre eleve, </a:t>
            </a:r>
            <a:endParaRPr b="0" lang="en-US" sz="1600" spc="-1" strike="noStrike">
              <a:solidFill>
                <a:srgbClr val="000000"/>
              </a:solidFill>
              <a:latin typeface="Arial"/>
            </a:endParaRPr>
          </a:p>
          <a:p>
            <a:pPr marL="2916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an</a:t>
            </a:r>
            <a:endParaRPr b="0" lang="en-US" sz="1600" spc="-1" strike="noStrike">
              <a:solidFill>
                <a:srgbClr val="000000"/>
              </a:solidFill>
              <a:latin typeface="Arial"/>
            </a:endParaRPr>
          </a:p>
          <a:p>
            <a:pPr marL="2916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2916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3428640" y="5028840"/>
            <a:ext cx="4419720" cy="205740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re Mme. Dill</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ujourd'hui petit déjeuner était fantastique. J'ai vu mon favorite muscien. Son nom est Skrillex.  Son est tres bein. J’ai ne vu jamais Matheus Sardinha. Son n'est pas ici. J'ai acheté des bonbons.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tre eleve</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an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3886200"/>
            <a:ext cx="8229600" cy="2819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re Mme Dil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jourd'hui c'est mon dernier jour. C'était amusant. Le déjeuner n'était pas très bon. J'écoutais de la musique. J’ai fatigué. Maintenant, je dois aller à mon avi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tre elev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1T15:30:07Z</dcterms:created>
  <dc:creator>scottsea</dc:creator>
  <dc:description/>
  <dc:language>en-US</dc:language>
  <cp:lastModifiedBy>edill</cp:lastModifiedBy>
  <dcterms:modified xsi:type="dcterms:W3CDTF">2012-02-03T16:13:56Z</dcterms:modified>
  <cp:revision>10</cp:revision>
  <dc:subject/>
  <dc:title>COURCHEVEL - STATION DE SPORTS D'HIVER (SAINT-BON-TARENTAISE) </dc:title>
</cp:coreProperties>
</file>